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01F3-FED2-42B1-B47C-CA42FDDC1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704E-1C71-4F41-A246-5DEE9B90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AAAB-F4F4-434D-9F3E-D9904D07E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4055-0C8A-4658-8832-1A5F98E5E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9D43-8F65-4926-82FB-A0883431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30F8-1641-4BD5-B1EA-C233D8B1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E636-AFF7-41D3-9172-EC35F13C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BDFB-CEF1-4B88-A73F-906DF6B1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1380-73CE-4FDE-9C02-86E8EFDD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D9ED-41BF-474D-9AED-4997CEEC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BD94-2ED5-4C08-A1B6-EF4694D3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A0B2-8C3B-42FB-B817-5518A260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 Math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D4B5-433C-41DE-A1BD-CBED291BFD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Introduction to regression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Cambria Math"/>
              </a:rPr>
              <a:t>Fitting a straight line – the 3-median method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Usually, we need a more accurate method than fitting a line by eye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One of these methods is called the 3-median method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3-median method procedure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Step 1. Plot the points on a scatterplot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Step 2. Divide the points into three groups using vertical divisions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 Math"/>
              </a:rPr>
              <a:t>If the number of points is divisible by 3, divide them into 3 equal groups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 Math"/>
              </a:rPr>
              <a:t>If there is 1 extra point, put the extra point in the middle group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 Math"/>
              </a:rPr>
              <a:t>If there are 2 extra points, put 1 extra point in each of the outer groups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Step 3. Find the median point of each of the 3 groups and mark each median on the scatterplot. The median point of each group has an x-coordinate, which is the median value of the x-values in the group and a y-coordinate, which is the median value of the y-values in the group.</a:t>
            </a:r>
            <a:endParaRPr b="0" lang="en-US" sz="3000" spc="-1" strike="noStrike">
              <a:solidFill>
                <a:srgbClr val="000000"/>
              </a:solidFill>
              <a:latin typeface="Cambria Math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mbria Math"/>
              </a:rPr>
              <a:t>The left group is the lower group, median (x</a:t>
            </a:r>
            <a:r>
              <a:rPr b="0" lang="en-AU" sz="2600" spc="-1" strike="noStrike" baseline="-25000">
                <a:solidFill>
                  <a:srgbClr val="000000"/>
                </a:solidFill>
                <a:latin typeface="Cambria Math"/>
              </a:rPr>
              <a:t>L</a:t>
            </a:r>
            <a:r>
              <a:rPr b="0" lang="en-AU" sz="2600" spc="-1" strike="noStrike">
                <a:solidFill>
                  <a:srgbClr val="000000"/>
                </a:solidFill>
                <a:latin typeface="Cambria Math"/>
              </a:rPr>
              <a:t>,y</a:t>
            </a:r>
            <a:r>
              <a:rPr b="0" lang="en-AU" sz="2600" spc="-1" strike="noStrike" baseline="-25000">
                <a:solidFill>
                  <a:srgbClr val="000000"/>
                </a:solidFill>
                <a:latin typeface="Cambria Math"/>
              </a:rPr>
              <a:t>L</a:t>
            </a:r>
            <a:r>
              <a:rPr b="0" lang="en-AU" sz="2600" spc="-1" strike="noStrike">
                <a:solidFill>
                  <a:srgbClr val="000000"/>
                </a:solidFill>
                <a:latin typeface="Cambria Math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mbria Math"/>
              </a:rPr>
              <a:t>The median of the middle group is (x</a:t>
            </a:r>
            <a:r>
              <a:rPr b="0" lang="en-AU" sz="2600" spc="-1" strike="noStrike" baseline="-25000">
                <a:solidFill>
                  <a:srgbClr val="000000"/>
                </a:solidFill>
                <a:latin typeface="Cambria Math"/>
              </a:rPr>
              <a:t>M</a:t>
            </a:r>
            <a:r>
              <a:rPr b="0" lang="en-AU" sz="2600" spc="-1" strike="noStrike">
                <a:solidFill>
                  <a:srgbClr val="000000"/>
                </a:solidFill>
                <a:latin typeface="Cambria Math"/>
              </a:rPr>
              <a:t>,y</a:t>
            </a:r>
            <a:r>
              <a:rPr b="0" lang="en-AU" sz="2600" spc="-1" strike="noStrike" baseline="-25000">
                <a:solidFill>
                  <a:srgbClr val="000000"/>
                </a:solidFill>
                <a:latin typeface="Cambria Math"/>
              </a:rPr>
              <a:t>M</a:t>
            </a:r>
            <a:r>
              <a:rPr b="0" lang="en-AU" sz="2600" spc="-1" strike="noStrike">
                <a:solidFill>
                  <a:srgbClr val="000000"/>
                </a:solidFill>
                <a:latin typeface="Cambria Math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mbria Math"/>
              </a:rPr>
              <a:t>The median of the upper group is (x</a:t>
            </a:r>
            <a:r>
              <a:rPr b="0" lang="en-AU" sz="2600" spc="-1" strike="noStrike" baseline="-25000">
                <a:solidFill>
                  <a:srgbClr val="000000"/>
                </a:solidFill>
                <a:latin typeface="Cambria Math"/>
              </a:rPr>
              <a:t>U</a:t>
            </a:r>
            <a:r>
              <a:rPr b="0" lang="en-AU" sz="2600" spc="-1" strike="noStrike">
                <a:solidFill>
                  <a:srgbClr val="000000"/>
                </a:solidFill>
                <a:latin typeface="Cambria Math"/>
              </a:rPr>
              <a:t>,y</a:t>
            </a:r>
            <a:r>
              <a:rPr b="0" lang="en-AU" sz="2600" spc="-1" strike="noStrike" baseline="-25000">
                <a:solidFill>
                  <a:srgbClr val="000000"/>
                </a:solidFill>
                <a:latin typeface="Cambria Math"/>
              </a:rPr>
              <a:t>U</a:t>
            </a:r>
            <a:r>
              <a:rPr b="0" lang="en-AU" sz="2600" spc="-1" strike="noStrike">
                <a:solidFill>
                  <a:srgbClr val="000000"/>
                </a:solidFill>
                <a:latin typeface="Cambria Math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Remember that the x-values are already in the right order for calculating the median but that the y-values may need to be re-ordered before you can find the median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re are three alternative methods of completing Steps 4 and 5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A. Graphical Approach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Step 4. Draw in the line of best fit. Place your ruler so that it passes through the lower and upper medians. Move the ruler a third of the way toward the middle group median </a:t>
            </a:r>
            <a:r>
              <a:rPr b="1" lang="en-AU" sz="3200" spc="-1" strike="noStrike" u="sng">
                <a:solidFill>
                  <a:srgbClr val="000000"/>
                </a:solidFill>
                <a:uFillTx/>
                <a:latin typeface="Cambria Math"/>
              </a:rPr>
              <a:t>while maintaining the slope. 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Hold the ruler there and draw the line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Find the equation of the line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B. Arithmetic Approach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Step 4. Calculate the gradient of the line 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using the rule 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Step 5. Calculate the y-intercept (c) using the rule: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graphicFrame>
        <p:nvGraphicFramePr>
          <p:cNvPr id="55" name="Object 2"/>
          <p:cNvGraphicFramePr/>
          <p:nvPr/>
        </p:nvGraphicFramePr>
        <p:xfrm>
          <a:off x="3056040" y="2500200"/>
          <a:ext cx="210492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2500200"/>
                    <a:ext cx="210492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5"/>
          <p:cNvGraphicFramePr/>
          <p:nvPr/>
        </p:nvGraphicFramePr>
        <p:xfrm>
          <a:off x="2500200" y="4572000"/>
          <a:ext cx="6299280" cy="10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4572000"/>
                    <a:ext cx="629928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C. CAS Calculator Approach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Use emulator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Ex 3B: 2, 4, 5, 7, 9, 10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11:37:42Z</dcterms:created>
  <dc:creator>08843474</dc:creator>
  <dc:description/>
  <dc:language>en-US</dc:language>
  <cp:lastModifiedBy>08843474</cp:lastModifiedBy>
  <dcterms:modified xsi:type="dcterms:W3CDTF">2011-03-03T12:12:50Z</dcterms:modified>
  <cp:revision>2</cp:revision>
  <dc:subject/>
  <dc:title>Introduction to regression</dc:title>
</cp:coreProperties>
</file>